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ED38BF-1F24-4BDC-8B5A-3D060CB5F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6320" y="8807400"/>
            <a:ext cx="89064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83385A-3A3C-4B9C-9FAD-3CC44934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C667FB-0E59-4095-A606-DC695A79D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D4C133-8660-4B5B-BBBA-864C3CB1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EA66D-8C00-45FD-AABC-FB269D4B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individuation / Group Identity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nymity (Uniforms, Masks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nsi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Heuristic / Perceived Preval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408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77840"/>
            <a:ext cx="264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112320"/>
            <a:ext cx="879948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7784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54080"/>
            <a:ext cx="40158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7840"/>
            <a:ext cx="82296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4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4038480" y="6467040"/>
            <a:ext cx="5105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5040"/>
            <a:ext cx="80010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uceskarin@hotmail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hyperlink" Target="http://bjsdata.ojp.usdoj.gov/dataonline/Search/Crime/Crime.cfm" TargetMode="External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hyperlink" Target="http://bjsdata.ojp.usdoj.gov/dataonline/Search/Crime/Crime.cfm" TargetMode="External"/><Relationship Id="rId5" Type="http://schemas.openxmlformats.org/officeDocument/2006/relationships/hyperlink" Target="http://bjsdata.ojp.usdoj.gov/dataonline/Search/Crime/Crime.cf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1144440"/>
            <a:ext cx="8534520" cy="26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the Cycles of Ga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Criminal Behavior</a:t>
            </a:r>
            <a:br>
              <a:rPr sz="36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erstanding the Economic and Social Infl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15880" y="5886360"/>
            <a:ext cx="577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hlinkClick r:id="rId1"/>
              </a:rPr>
              <a:t>bruceskarin@hotmail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7000" y="4281480"/>
            <a:ext cx="75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ce Sk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anine </a:t>
            </a: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Skorinko, Khalid Saeed, Oleg Pav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745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7 System Dynamics Confer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uquerque, New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1460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0440" y="985680"/>
          <a:ext cx="822636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985680"/>
                    <a:ext cx="822636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l and Simulated Crime Cy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028880"/>
          <a:ext cx="8226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28880"/>
                    <a:ext cx="8226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asuring Tradeoff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480" y="1049400"/>
            <a:ext cx="9144000" cy="4323240"/>
            <a:chOff x="114480" y="1049400"/>
            <a:chExt cx="9144000" cy="4323240"/>
          </a:xfrm>
        </p:grpSpPr>
        <p:grpSp>
          <p:nvGrpSpPr>
            <p:cNvPr id="135" name=""/>
            <p:cNvGrpSpPr/>
            <p:nvPr/>
          </p:nvGrpSpPr>
          <p:grpSpPr>
            <a:xfrm>
              <a:off x="4782240" y="1050840"/>
              <a:ext cx="4315680" cy="4078440"/>
              <a:chOff x="4782240" y="1050840"/>
              <a:chExt cx="4315680" cy="4078440"/>
            </a:xfrm>
          </p:grpSpPr>
          <p:sp>
            <p:nvSpPr>
              <p:cNvPr id="136" name=""/>
              <p:cNvSpPr/>
              <p:nvPr/>
            </p:nvSpPr>
            <p:spPr>
              <a:xfrm>
                <a:off x="4943880" y="1050840"/>
                <a:ext cx="4144680" cy="4068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43880" y="1050840"/>
                <a:ext cx="4154040" cy="407844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943880" y="2068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43880" y="308448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43880" y="4102560"/>
                <a:ext cx="4144680" cy="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82240" y="2982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7312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208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49600" y="1050840"/>
                <a:ext cx="0" cy="40680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7005240" y="515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5320" y="3081240"/>
              <a:ext cx="2070000" cy="2048040"/>
            </a:xfrm>
            <a:prstGeom prst="rect">
              <a:avLst/>
            </a:prstGeom>
            <a:solidFill>
              <a:srgbClr val="ae0008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0000" y="3079800"/>
              <a:ext cx="2076480" cy="204624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0000" y="1057320"/>
              <a:ext cx="2054160" cy="2016000"/>
            </a:xfrm>
            <a:prstGeom prst="rect">
              <a:avLst/>
            </a:prstGeom>
            <a:solidFill>
              <a:srgbClr val="ff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007400" y="1055160"/>
              <a:ext cx="0" cy="407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43520" y="3081240"/>
              <a:ext cx="415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3880" y="1049400"/>
              <a:ext cx="2079360" cy="2028600"/>
            </a:xfrm>
            <a:prstGeom prst="rect">
              <a:avLst/>
            </a:prstGeom>
            <a:solidFill>
              <a:srgbClr val="0066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Freed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 Legitima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480" y="26668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480" y="2876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0" y="1943280"/>
                <a:ext cx="46864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edom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s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lice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mber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1144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48080" y="5486400"/>
                <a:ext cx="60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onomi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gitimac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ivilia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ang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posabl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com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120" y="3428640"/>
            <a:ext cx="4686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of model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me wave versus increased poli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in civilian and gang/criminal produ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33720" y="1120680"/>
            <a:ext cx="5942160" cy="507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86200" y="2857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29280" y="3200400"/>
            <a:ext cx="176040" cy="142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2200" y="23400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ocial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615000" y="2533320"/>
            <a:ext cx="459000" cy="49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3036600" y="33285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8960" y="345456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191280" y="1244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50240" y="36576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5560" y="3330720"/>
            <a:ext cx="566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, Social, &amp; Combined Compar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9021600">
            <a:off x="3972960" y="3839760"/>
            <a:ext cx="2338200" cy="338040"/>
          </a:xfrm>
          <a:prstGeom prst="rightArrow">
            <a:avLst>
              <a:gd name="adj1" fmla="val 39269"/>
              <a:gd name="adj2" fmla="val 126170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94400" y="3673440"/>
            <a:ext cx="342720" cy="343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35520" y="3402000"/>
            <a:ext cx="343080" cy="34308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78480" y="3787920"/>
            <a:ext cx="342720" cy="34272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22560" y="1174680"/>
            <a:ext cx="5942160" cy="507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6200000">
            <a:off x="3025440" y="34300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1840" y="370836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05560" y="1333440"/>
            <a:ext cx="21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overnment Infu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233840" y="1943280"/>
            <a:ext cx="8100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6840" y="3232080"/>
            <a:ext cx="320760" cy="55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9720" y="5019840"/>
            <a:ext cx="23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8560" y="5184720"/>
            <a:ext cx="97164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2400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Gang Infusion </a:t>
            </a: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Economic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317840" y="2971800"/>
            <a:ext cx="254160" cy="1679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17800" y="3508200"/>
            <a:ext cx="4724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180120" y="129816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ng vs. Government In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320" y="34844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a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9088200">
            <a:off x="3984480" y="3873240"/>
            <a:ext cx="2338560" cy="338040"/>
          </a:xfrm>
          <a:prstGeom prst="rightArrow">
            <a:avLst>
              <a:gd name="adj1" fmla="val 39269"/>
              <a:gd name="adj2" fmla="val 126189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0000" y="3852360"/>
            <a:ext cx="1654200" cy="6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4579200">
            <a:off x="5821920" y="3751920"/>
            <a:ext cx="927000" cy="347760"/>
          </a:xfrm>
          <a:prstGeom prst="rightArrow">
            <a:avLst>
              <a:gd name="adj1" fmla="val 43907"/>
              <a:gd name="adj2" fmla="val 7772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526840" y="4213080"/>
            <a:ext cx="3832200" cy="640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614840"/>
            <a:ext cx="27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Increase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88620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1960" y="336564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1488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40240" y="39751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1089000"/>
            <a:ext cx="5942160" cy="5162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003120" y="335376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eedo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86680" y="1298520"/>
            <a:ext cx="217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ivilian Productivity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714680"/>
            <a:ext cx="257040" cy="34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5080" y="2400480"/>
            <a:ext cx="1514160" cy="80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96080" y="3965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14840" y="4041720"/>
            <a:ext cx="38124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057400"/>
            <a:ext cx="19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ng 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48360" y="503244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ivilian Productivity De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29040" y="5032440"/>
            <a:ext cx="1219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95840" y="379080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853240" y="1219320"/>
            <a:ext cx="0" cy="4497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51440" y="3645000"/>
            <a:ext cx="704880" cy="285480"/>
          </a:xfrm>
          <a:prstGeom prst="rightArrow">
            <a:avLst>
              <a:gd name="adj1" fmla="val 43907"/>
              <a:gd name="adj2" fmla="val 7199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2523960" y="1828440"/>
            <a:ext cx="3934080" cy="19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7840" y="126360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703600" y="3772080"/>
            <a:ext cx="2921040" cy="65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280" y="382572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0800000">
            <a:off x="5541480" y="3638160"/>
            <a:ext cx="289080" cy="291960"/>
          </a:xfrm>
          <a:prstGeom prst="rightArrow">
            <a:avLst>
              <a:gd name="adj1" fmla="val 43907"/>
              <a:gd name="adj2" fmla="val 29157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634840" y="3160800"/>
            <a:ext cx="2994120" cy="59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880" y="256068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Civilian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5138640" y="3633480"/>
            <a:ext cx="696960" cy="291960"/>
          </a:xfrm>
          <a:prstGeom prst="rightArrow">
            <a:avLst>
              <a:gd name="adj1" fmla="val 43907"/>
              <a:gd name="adj2" fmla="val 69604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59360" y="3641760"/>
            <a:ext cx="390600" cy="285840"/>
          </a:xfrm>
          <a:prstGeom prst="rightArrow">
            <a:avLst>
              <a:gd name="adj1" fmla="val 43907"/>
              <a:gd name="adj2" fmla="val 39843"/>
            </a:avLst>
          </a:prstGeom>
          <a:solidFill>
            <a:srgbClr val="ffee3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730240" y="3757680"/>
            <a:ext cx="3544920" cy="18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4120" y="5065560"/>
            <a:ext cx="27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% Gang Productivity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ng vs. Civilian Productivity Increase/Decr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2120" y="3841920"/>
            <a:ext cx="457200" cy="457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18360" y="2324160"/>
            <a:ext cx="457200" cy="457200"/>
          </a:xfrm>
          <a:prstGeom prst="star5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17840" y="4660920"/>
            <a:ext cx="457200" cy="457200"/>
          </a:xfrm>
          <a:prstGeom prst="star5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75520" y="3100320"/>
            <a:ext cx="457200" cy="457200"/>
          </a:xfrm>
          <a:prstGeom prst="star5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del Insights and 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me cycles can be simulated using either economic or social infl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mbined model demonstrates how effects can be amplif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ded policing may have similar negative social freedom and economic prosperity outcomes as a crime w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vilian productivity is a strong driver in determining new equilibriu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amplifying effects should be considered in crime policy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ynastic Cycles to Crime W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28880"/>
            <a:ext cx="5724360" cy="31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2676600" y="2857680"/>
          <a:ext cx="6467400" cy="340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2857680"/>
                    <a:ext cx="646740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57480" y="6400800"/>
            <a:ext cx="3200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Source: Crime trends from the FBI's Uniform Crime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800" spc="-1" strike="noStrike" u="sng">
                <a:solidFill>
                  <a:srgbClr val="006699"/>
                </a:solidFill>
                <a:uFillTx/>
                <a:latin typeface="Arial"/>
                <a:hlinkClick r:id="rId5"/>
              </a:rPr>
              <a:t>bjsdata.ojp.usdoj.gov/dataonline/Search/Crime/Crime.c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urce Competition Archetyp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0540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source St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vili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m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Primary Feedback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633680"/>
            <a:ext cx="6286680" cy="38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7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nomic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11545920" cy="5694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12320"/>
            <a:ext cx="8799480" cy="8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Psychology Persp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cester Polytechnic Institu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275 2.53469E-006 E">
                                      <p:cBhvr>
                                        <p:cTn id="15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1:26:29Z</dcterms:created>
  <dc:creator>Bruce Skarin</dc:creator>
  <dc:description/>
  <dc:language>en-US</dc:language>
  <cp:lastModifiedBy>Bruce Skarin</cp:lastModifiedBy>
  <cp:lastPrinted>2002-05-16T20:57:59Z</cp:lastPrinted>
  <dcterms:modified xsi:type="dcterms:W3CDTF">2009-07-28T13:21:39Z</dcterms:modified>
  <cp:revision>23</cp:revision>
  <dc:subject/>
  <dc:title>Modeling the Cycles of Gang and Criminal Behavior Understanding the Social and Economic Influences</dc:title>
</cp:coreProperties>
</file>