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CCBF98-0AC4-4AAC-BFF9-F4DBBC82F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6320" y="8807400"/>
            <a:ext cx="89064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C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individuation / Group Identity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nymity (Uniforms, Masks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awar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nsi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Heuristic / Perceived Preva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C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individuation / Group Identity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nymity (Uniforms, Masks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awar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nsi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Heuristic / Perceived Preva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3BEBD6-2ABA-4B78-82C0-C67C2B079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109DE9-B1BE-433E-B888-56D0737AC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CB1B9A-AB0D-4643-B2C3-C457FEBE9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A3F6CD-6421-4CF2-A5D6-130CCCE16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C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individuation / Group Identity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nymity (Uniforms, Masks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awar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nsi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Heuristic / Perceived Preva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7784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7784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7784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0540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0540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7784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7784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7784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540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1920" y="112320"/>
            <a:ext cx="879948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7784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0540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7784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7784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7784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784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7784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540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540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7784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7784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7784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1920" y="112320"/>
            <a:ext cx="879948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7784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7784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7784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9840" cy="684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4038480" y="6467040"/>
            <a:ext cx="5105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0540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1265040"/>
            <a:ext cx="80010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562720"/>
            <a:ext cx="914400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771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ruceskarin@hotmail.com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hyperlink" Target="http://bjsdata.ojp.usdoj.gov/dataonline/Search/Crime/Crime.cfm" TargetMode="External"/><Relationship Id="rId4" Type="http://schemas.openxmlformats.org/officeDocument/2006/relationships/hyperlink" Target="http://bjsdata.ojp.usdoj.gov/dataonline/Search/Crime/Crime.cfm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hyperlink" Target="http://bjsdata.ojp.usdoj.gov/dataonline/Search/Crime/Crime.cfm" TargetMode="External"/><Relationship Id="rId4" Type="http://schemas.openxmlformats.org/officeDocument/2006/relationships/hyperlink" Target="http://bjsdata.ojp.usdoj.gov/dataonline/Search/Crime/Crime.cfm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hyperlink" Target="http://bjsdata.ojp.usdoj.gov/dataonline/Search/Crime/Crime.cfm" TargetMode="External"/><Relationship Id="rId4" Type="http://schemas.openxmlformats.org/officeDocument/2006/relationships/hyperlink" Target="http://bjsdata.ojp.usdoj.gov/dataonline/Search/Crime/Crime.cf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hyperlink" Target="http://bjsdata.ojp.usdoj.gov/dataonline/Search/Crime/Crime.cfm" TargetMode="External"/><Relationship Id="rId5" Type="http://schemas.openxmlformats.org/officeDocument/2006/relationships/hyperlink" Target="http://bjsdata.ojp.usdoj.gov/dataonline/Search/Crime/Crime.cfm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9360" y="1144440"/>
            <a:ext cx="8534520" cy="26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the Cycles of Ga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Criminal Behavior</a:t>
            </a:r>
            <a:br>
              <a:rPr sz="36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derstanding the Economic and Social Infl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215880" y="5886360"/>
            <a:ext cx="5775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hlinkClick r:id="rId1"/>
              </a:rPr>
              <a:t>bruceskarin@hotmail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27000" y="4281480"/>
            <a:ext cx="757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uce Ska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anine </a:t>
            </a: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Skorinko, Khalid Saeed, Oleg Pavl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745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07 System Dynamics Conferen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buquerque, New 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cial Psychology Persp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2514600" y="571680"/>
            <a:ext cx="11545920" cy="569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cial Psychology Persp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2514600" y="571680"/>
            <a:ext cx="11545920" cy="569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l and Simulated Crime Cyc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028880"/>
          <a:ext cx="822636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28880"/>
                    <a:ext cx="822636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257480" y="6400800"/>
            <a:ext cx="32004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Source: Crime trends from the FBI's Uniform Crime Re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800" spc="-1" strike="noStrike" u="sng">
                <a:solidFill>
                  <a:srgbClr val="006699"/>
                </a:solidFill>
                <a:uFillTx/>
                <a:latin typeface="Arial"/>
                <a:hlinkClick r:id="rId4"/>
              </a:rPr>
              <a:t>bjsdata.ojp.usdoj.gov/dataonline/Search/Crime/Crime.cf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l and Simulated Crime Cyc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0440" y="985680"/>
          <a:ext cx="8226360" cy="532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985680"/>
                    <a:ext cx="822636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257480" y="6400800"/>
            <a:ext cx="32004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Source: Crime trends from the FBI's Uniform Crime Re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800" spc="-1" strike="noStrike" u="sng">
                <a:solidFill>
                  <a:srgbClr val="006699"/>
                </a:solidFill>
                <a:uFillTx/>
                <a:latin typeface="Arial"/>
                <a:hlinkClick r:id="rId4"/>
              </a:rPr>
              <a:t>bjsdata.ojp.usdoj.gov/dataonline/Search/Crime/Crime.cf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l and Simulated Crime Cyc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028880"/>
          <a:ext cx="822636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28880"/>
                    <a:ext cx="822636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257480" y="6400800"/>
            <a:ext cx="32004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Source: Crime trends from the FBI's Uniform Crime Re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800" spc="-1" strike="noStrike" u="sng">
                <a:solidFill>
                  <a:srgbClr val="006699"/>
                </a:solidFill>
                <a:uFillTx/>
                <a:latin typeface="Arial"/>
                <a:hlinkClick r:id="rId4"/>
              </a:rPr>
              <a:t>bjsdata.ojp.usdoj.gov/dataonline/Search/Crime/Crime.cf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asuring Tradeoff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4480" y="1049400"/>
            <a:ext cx="9144000" cy="4323240"/>
            <a:chOff x="114480" y="1049400"/>
            <a:chExt cx="9144000" cy="4323240"/>
          </a:xfrm>
        </p:grpSpPr>
        <p:grpSp>
          <p:nvGrpSpPr>
            <p:cNvPr id="135" name=""/>
            <p:cNvGrpSpPr/>
            <p:nvPr/>
          </p:nvGrpSpPr>
          <p:grpSpPr>
            <a:xfrm>
              <a:off x="4782240" y="1050840"/>
              <a:ext cx="4315680" cy="4078440"/>
              <a:chOff x="4782240" y="1050840"/>
              <a:chExt cx="4315680" cy="4078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943880" y="1050840"/>
                <a:ext cx="4144680" cy="4068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943880" y="1050840"/>
                <a:ext cx="4154040" cy="407844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943880" y="2068560"/>
                <a:ext cx="4144680" cy="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943880" y="3084480"/>
                <a:ext cx="4144680" cy="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943880" y="4102560"/>
                <a:ext cx="4144680" cy="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782240" y="29826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973120" y="1050840"/>
                <a:ext cx="0" cy="40680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12080" y="1050840"/>
                <a:ext cx="0" cy="40680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049600" y="1050840"/>
                <a:ext cx="0" cy="40680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7005240" y="51591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45320" y="3081240"/>
              <a:ext cx="2070000" cy="2048040"/>
            </a:xfrm>
            <a:prstGeom prst="rect">
              <a:avLst/>
            </a:prstGeom>
            <a:solidFill>
              <a:srgbClr val="ae0008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w Freed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w Legitima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20000" y="3079800"/>
              <a:ext cx="2076480" cy="2046240"/>
            </a:xfrm>
            <a:prstGeom prst="rect">
              <a:avLst/>
            </a:prstGeom>
            <a:solidFill>
              <a:srgbClr val="ffcc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w Freed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ig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gitima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50000" y="1057320"/>
              <a:ext cx="2054160" cy="2016000"/>
            </a:xfrm>
            <a:prstGeom prst="rect">
              <a:avLst/>
            </a:prstGeom>
            <a:solidFill>
              <a:srgbClr val="ffcc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igh Freed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gitima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7007400" y="1055160"/>
              <a:ext cx="0" cy="407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43520" y="3081240"/>
              <a:ext cx="415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13880" y="1049400"/>
              <a:ext cx="2079360" cy="2028600"/>
            </a:xfrm>
            <a:prstGeom prst="rect">
              <a:avLst/>
            </a:prstGeom>
            <a:solidFill>
              <a:srgbClr val="0066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igh Freed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igh Legitima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4480" y="26668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4480" y="28764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144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0" y="1943280"/>
                <a:ext cx="4686480" cy="90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reedom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ivilians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olice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ang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mbers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1144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548080" y="5486400"/>
                <a:ext cx="60577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conomic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egitimac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ivilian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oduc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ang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posabl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come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120" y="3428640"/>
            <a:ext cx="468612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men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ison of model stru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me wave versus increased polic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s in civilian and gang/criminal produc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033720" y="1120680"/>
            <a:ext cx="5942160" cy="507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886200" y="2857680"/>
            <a:ext cx="17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Economic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29280" y="3200400"/>
            <a:ext cx="176040" cy="142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72200" y="234000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Social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615000" y="2533320"/>
            <a:ext cx="459000" cy="49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3036600" y="3328560"/>
            <a:ext cx="64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reedo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28960" y="3454560"/>
            <a:ext cx="4724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191280" y="1244160"/>
            <a:ext cx="0" cy="441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50240" y="365760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Comb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05560" y="3330720"/>
            <a:ext cx="56664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ic, Social, &amp; Combined Comparis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320" y="3484440"/>
            <a:ext cx="27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% Increase in Gang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9021600">
            <a:off x="3972960" y="3839760"/>
            <a:ext cx="2338200" cy="338040"/>
          </a:xfrm>
          <a:prstGeom prst="rightArrow">
            <a:avLst>
              <a:gd name="adj1" fmla="val 39269"/>
              <a:gd name="adj2" fmla="val 126170"/>
            </a:avLst>
          </a:prstGeom>
          <a:solidFill>
            <a:srgbClr val="ffee3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2700000" y="3852360"/>
            <a:ext cx="1654200" cy="60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94400" y="3673440"/>
            <a:ext cx="342720" cy="3430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35520" y="3402000"/>
            <a:ext cx="343080" cy="34308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78480" y="3787920"/>
            <a:ext cx="342720" cy="342720"/>
          </a:xfrm>
          <a:prstGeom prst="star5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22560" y="1174680"/>
            <a:ext cx="5942160" cy="5076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rot="16200000">
            <a:off x="3025440" y="3430080"/>
            <a:ext cx="64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reedo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81840" y="370836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Government Inf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Economic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05560" y="1333440"/>
            <a:ext cx="217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overnment Inf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Comb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7233840" y="1943280"/>
            <a:ext cx="8100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16840" y="3232080"/>
            <a:ext cx="320760" cy="55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19720" y="5019840"/>
            <a:ext cx="234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ng Infus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8560" y="5184720"/>
            <a:ext cx="97164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24004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Gang Infusion </a:t>
            </a: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Economic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317840" y="2971800"/>
            <a:ext cx="254160" cy="1679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17800" y="3508200"/>
            <a:ext cx="4724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180120" y="1298160"/>
            <a:ext cx="0" cy="441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ng vs. Government Infu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0320" y="3484440"/>
            <a:ext cx="27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% Increase in Gang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9088200">
            <a:off x="3984480" y="3873240"/>
            <a:ext cx="2338560" cy="338040"/>
          </a:xfrm>
          <a:prstGeom prst="rightArrow">
            <a:avLst>
              <a:gd name="adj1" fmla="val 39269"/>
              <a:gd name="adj2" fmla="val 126189"/>
            </a:avLst>
          </a:prstGeom>
          <a:solidFill>
            <a:srgbClr val="ffee3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700000" y="3852360"/>
            <a:ext cx="1654200" cy="60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4579200">
            <a:off x="5821920" y="3751920"/>
            <a:ext cx="927000" cy="347760"/>
          </a:xfrm>
          <a:prstGeom prst="rightArrow">
            <a:avLst>
              <a:gd name="adj1" fmla="val 43907"/>
              <a:gd name="adj2" fmla="val 77723"/>
            </a:avLst>
          </a:prstGeom>
          <a:solidFill>
            <a:srgbClr val="ffee3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526840" y="4213080"/>
            <a:ext cx="3832200" cy="64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614840"/>
            <a:ext cx="27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% Increase in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3886200"/>
            <a:ext cx="457200" cy="4572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11960" y="3365640"/>
            <a:ext cx="457200" cy="45720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314880"/>
            <a:ext cx="457200" cy="457200"/>
          </a:xfrm>
          <a:prstGeom prst="star5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40240" y="3975120"/>
            <a:ext cx="457200" cy="457200"/>
          </a:xfrm>
          <a:prstGeom prst="star5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00240" y="1089000"/>
            <a:ext cx="5942160" cy="5162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rot="16200000">
            <a:off x="3003120" y="3353760"/>
            <a:ext cx="64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reedo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86680" y="1298520"/>
            <a:ext cx="217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ivilian Productivity 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15200" y="1714680"/>
            <a:ext cx="257040" cy="34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15080" y="2400480"/>
            <a:ext cx="1514160" cy="80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96080" y="396540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ang Produ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14840" y="4041720"/>
            <a:ext cx="38124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2057400"/>
            <a:ext cx="19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ng Produ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48360" y="503244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ivilian Productivity De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29040" y="5032440"/>
            <a:ext cx="1219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95840" y="379080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853240" y="1219320"/>
            <a:ext cx="0" cy="449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51440" y="3645000"/>
            <a:ext cx="704880" cy="285480"/>
          </a:xfrm>
          <a:prstGeom prst="rightArrow">
            <a:avLst>
              <a:gd name="adj1" fmla="val 43907"/>
              <a:gd name="adj2" fmla="val 71993"/>
            </a:avLst>
          </a:prstGeom>
          <a:solidFill>
            <a:srgbClr val="ffee3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2523960" y="1828440"/>
            <a:ext cx="3934080" cy="196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7840" y="1263600"/>
            <a:ext cx="27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% Civilian Productivity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703600" y="3772080"/>
            <a:ext cx="2921040" cy="65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2280" y="3825720"/>
            <a:ext cx="27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% Gang Productivity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0800000">
            <a:off x="5541480" y="3638160"/>
            <a:ext cx="289080" cy="291960"/>
          </a:xfrm>
          <a:prstGeom prst="rightArrow">
            <a:avLst>
              <a:gd name="adj1" fmla="val 43907"/>
              <a:gd name="adj2" fmla="val 29157"/>
            </a:avLst>
          </a:prstGeom>
          <a:solidFill>
            <a:srgbClr val="ffee3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2634840" y="3160800"/>
            <a:ext cx="2994120" cy="59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3880" y="2560680"/>
            <a:ext cx="27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% Civilian Productivity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5138640" y="3633480"/>
            <a:ext cx="696960" cy="291960"/>
          </a:xfrm>
          <a:prstGeom prst="rightArrow">
            <a:avLst>
              <a:gd name="adj1" fmla="val 43907"/>
              <a:gd name="adj2" fmla="val 69604"/>
            </a:avLst>
          </a:prstGeom>
          <a:solidFill>
            <a:srgbClr val="ffee3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59360" y="3641760"/>
            <a:ext cx="390600" cy="285840"/>
          </a:xfrm>
          <a:prstGeom prst="rightArrow">
            <a:avLst>
              <a:gd name="adj1" fmla="val 43907"/>
              <a:gd name="adj2" fmla="val 39843"/>
            </a:avLst>
          </a:prstGeom>
          <a:solidFill>
            <a:srgbClr val="ffee3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730240" y="3757680"/>
            <a:ext cx="3544920" cy="18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4120" y="5065560"/>
            <a:ext cx="27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% Gang Productivity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ng vs. Civilian Productivity Increase/Decr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72120" y="3841920"/>
            <a:ext cx="457200" cy="4572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18360" y="2324160"/>
            <a:ext cx="457200" cy="45720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17840" y="4660920"/>
            <a:ext cx="457200" cy="457200"/>
          </a:xfrm>
          <a:prstGeom prst="star5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75520" y="3100320"/>
            <a:ext cx="457200" cy="457200"/>
          </a:xfrm>
          <a:prstGeom prst="star5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del Insights and Conclu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me cycles can be simulated using either economic or social influ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mbined model demonstrates how effects can be amplifi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anded policing may have similar negative social freedom and economic prosperity outcomes as a crime wa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vilian productivity is a strong driver in determining new equilibriu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amplifying effects should be considered in crime policy solu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ynastic Cycles to Crime Wa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028880"/>
            <a:ext cx="5724360" cy="31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2676600" y="2857680"/>
          <a:ext cx="6467400" cy="3400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76600" y="2857680"/>
                    <a:ext cx="6467400" cy="34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257480" y="6400800"/>
            <a:ext cx="32004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Source: Crime trends from the FBI's Uniform Crime Re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800" spc="-1" strike="noStrike" u="sng">
                <a:solidFill>
                  <a:srgbClr val="006699"/>
                </a:solidFill>
                <a:uFillTx/>
                <a:latin typeface="Arial"/>
                <a:hlinkClick r:id="rId5"/>
              </a:rPr>
              <a:t>bjsdata.ojp.usdoj.gov/dataonline/Search/Crime/Crime.cf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ource Competition Archetyp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0540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Resource St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vili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mi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Primary Feedback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1633680"/>
            <a:ext cx="6286680" cy="38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ic Persp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11545920" cy="569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ic Persp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11545920" cy="569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ic Persp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11545920" cy="571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ic Persp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11545920" cy="571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ic Persp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11545920" cy="569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11545920" cy="5694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cial Psychology Persp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3469E-006 L -0.275 2.53469E-006 E">
                                      <p:cBhvr>
                                        <p:cTn id="15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1:26:29Z</dcterms:created>
  <dc:creator>Bruce Skarin</dc:creator>
  <dc:description/>
  <dc:language>en-US</dc:language>
  <cp:lastModifiedBy>Bruce Skarin</cp:lastModifiedBy>
  <cp:lastPrinted>2002-05-16T20:57:59Z</cp:lastPrinted>
  <dcterms:modified xsi:type="dcterms:W3CDTF">2009-07-28T13:21:39Z</dcterms:modified>
  <cp:revision>23</cp:revision>
  <dc:subject/>
  <dc:title>Modeling the Cycles of Gang and Criminal Behavior Understanding the Social and Economic Influences</dc:title>
</cp:coreProperties>
</file>